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14.pct" ContentType="image/x-pict"/>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5CFD8-3DC1-4F9E-9D74-AA1EE6827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E7A12-C3FF-48A2-BCE2-700C9DCB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4EF97-9F1B-4FB3-AEF5-E65C1EB13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A60C7-08A5-4DDC-B18A-A9B3A3B51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0F91D-BCAC-41CF-94B0-36463C6E1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F9FE8-2CE4-4EF9-8B0E-9DF3F18D2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F393F-DE14-4553-8953-33064A04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383BA-A454-4165-AE24-55EEC9372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E2071-EDF1-419F-800D-E0E9DB718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4076A-E9EC-48AD-A2FE-F8B1EF037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150B5-3A5B-4C78-BB7F-5289EB8B4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EDB8-77EC-44A8-925C-89A707B91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14810-11C6-4C9F-9375-DDC932080BE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16C88-6DD2-4537-B5AE-F03DAD4AC8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ct"/><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TextBox 4"/>
          <p:cNvSpPr/>
          <p:nvPr/>
        </p:nvSpPr>
        <p:spPr>
          <a:xfrm>
            <a:off x="-3135960" y="69840"/>
            <a:ext cx="15562440" cy="695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G DUDE DO YOU KNOW WHAT HAPPENED LAST NIGHTI FOT LIKE FREAKING UHH OK NVM I DODONNT THINK YOUWANNA HEAR IT DUCAC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AHUTLK;FJDSAJFNSDVNALKJHGFSKDJAREIOSJFDLSKFNDLKNVDLKFJOMFGILOVESYOUHADAMTHISISSOGAYOKSOYOONCARLYH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FGDUDECARLYTHISISWAHTHAPPENEDTHEOTHERNIGHTWITHMAIMEANMOLLYTHESHEEPWHODIESDBECAUSES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ISACLONENOTANACTUALSHEPEBUTWOHWELLTOOBADFORHERRIGHTANYWAYSAHFKJDSFHLSKADJFAEBKLJNDCCKJH</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G DUDE DO YOU KNOW WHAT HAPPENED LAST NIGHTI FOT LIKE FREAKING UHH OK NVM I DODONNT THINK YOUWANNA HEAR IT DUCAC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AHUTLK;FJDSAJFNSDVNALKJHGFSKDJAREIOSJFDLSKFNDLKNVDLKFJOMFGILOVESYOUHADAMTHISISSOGAYOKSOYOONCARLYH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FGDUDECARLYTHISISWAHTHAPPENEDTHEOTHERNIGHTWITHMAIMEANMOLLYTHESHEEPWHODIESDBECAUSES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ISACLONENOTANACTUALSHEPEBUTWOHWELLTOOBADFORHERRIGHTANYWAYSAHFKJDSFHLSKADJFAEBKLJNDCCKJH</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G DUDE DO YOU KNOW WHAT HAPPENED LAST NIGHTI FOT LIKE FREAKING UHH OK NVM I DODONNT THINK YOUWANNA HEAR IT DUCAC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AHUTLK;FJDSAJFNSDVNALKJHGFSKDJAREIOSJFDLSKFNDLKNVDLKFJOMFGILOVESYOUHADAMTHISISSOGAYOKSOYOONCARLYH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FGDUDECARLYTHISISWAHTHAPPENEDTHEOTHERNIGHTWITHMAIMEANMOLLYTHESHEEPWHODIESDBECAUSES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ISACLONENOTANACTUALSHEPEBUTWOHWELLTOOBADFORHERRIGHTANYWAYSAHFKJDSFHLSKADJFAEBKLJNDCCKJH</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G DUDE DO YOU KNOW WHAT HAPPENED LAST NIGHTI FOT LIKE FREAKING UHH OK NVM I DODONNT THINK YOUWANNA HEAR IT DUCAC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AHUTLK;FJDSAJFNSDVNALKJHGFSKDJAREIOSJFDLSKFNDLKNVDLKFJOMFGILOVESYOUHADAMTHISISSOGAYOKSOYOONCARLYH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FGDUDECARLYTHISISWAHTHAPPENEDTHEOTHERNIGHTWITHMAIMEANMOLLYTHESHEEPWHODIESDBECAUSES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ISACLONENOTANACTUALSHEPEBUTWOHWELLTOOBADFORHERRIGHTANYWAYSAHFKJDSFHLSKADJFAEBKLJNDCCKJH</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G DUDE DO YOU KNOW WHAT HAPPENED LAST NIGHTI FOT LIKE FREAKING UHH OK NVM I DODONNT THINK YOUWANNA HEAR IT DUCAC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AHUTLK;FJDSAJFNSDVNALKJHGFSKDJAREIOSJFDLSKFNDLKNVDLKFJOMFGILOVESYOUHADAMTHISISSOGAYOKSOYOONCARLYH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FGDUDECARLYTHISISWAHTHAPPENEDTHEOTHERNIGHTWITHMAIMEANMOLLYTHESHEEPWHODIESDBECAUSES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ISACLONENOTANACTUALSHEPEBUTWOHWELLTOOBADFORHERRIGHTANYWAYSAHFKJDSFHLSKADJFAEBKLJNDCCKJH</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G DUDE DO YOU KNOW WHAT HAPPENED LAST NIGHTI FOT LIKE FREAKING UHH OK NVM I DODONNT THINK YOUWANNA HEAR IT DUCAC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AHUTLK;FJDSAJFNSDVNALKJHGFSKDJAREIOSJFDLSKFNDLKNVDLKFJOMFGILOVESYOUHADAMTHISISSOGAYOKSOYOONCARLYH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OMFGDUDECARLYTHISISWAHTHAPPENEDTHEOTHERNIGHTWITHMAIMEANMOLLYTHESHEEPWHODIESDBECAUSES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NOCTURNAL_EXPERIENCE"/>
                <a:ea typeface="NOCTURNAL_EXPERIENCE"/>
              </a:rPr>
              <a:t>ISACLONENOTANACTUALSHEPEBUTWOHWELLTOOBADFORHERRIGHTANYWAYSAHFKJDSFHLSKADJFAEBKLJNDCCKJH</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bigattino"/>
                <a:ea typeface="bigattino"/>
              </a:rPr>
              <a:t>Peter Ilyich </a:t>
            </a:r>
            <a:r>
              <a:rPr b="0" lang="en-US" sz="7200" spc="-1" strike="noStrike">
                <a:solidFill>
                  <a:srgbClr val="000000"/>
                </a:solidFill>
                <a:latin typeface="loco tv"/>
                <a:ea typeface="loco tv"/>
              </a:rPr>
              <a:t>Tchaikovsky</a:t>
            </a:r>
            <a:endParaRPr b="0" lang="en-US" sz="72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bigattino"/>
                <a:ea typeface="bigattino"/>
              </a:rPr>
              <a:t>By Yoona Ch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THUS</a:t>
            </a:r>
            <a:r>
              <a:rPr b="0" lang="en-US" sz="5400" spc="-1" strike="noStrike">
                <a:solidFill>
                  <a:srgbClr val="000000"/>
                </a:solidFill>
                <a:latin typeface="Yummah Strawberriez"/>
                <a:ea typeface="Yummah Strawberriez"/>
              </a:rPr>
              <a:t>...</a:t>
            </a:r>
            <a:endParaRPr b="0" lang="en-US" sz="5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Yummah Strawberriez"/>
                <a:ea typeface="Yummah Strawberriez"/>
              </a:rPr>
              <a:t>Due to drinking contaminated water a few days before, many biographers believe that Peter died of cholera, the same disease that killed his mother, Alexandra Andreevna. Cholera in Russia was spreading quickly at the time and consequently, hapless Peter died on November 6, 1893, nine days after the premiere of his Sixth Symphony, the Pathétiq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1798200"/>
            <a:ext cx="5334120" cy="26211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0" spc="-1" strike="noStrike">
                <a:solidFill>
                  <a:srgbClr val="000000"/>
                </a:solidFill>
                <a:latin typeface="bigattino"/>
                <a:ea typeface="bigattino"/>
              </a:rPr>
              <a:t>OR</a:t>
            </a:r>
            <a:endParaRPr b="0" lang="en-US" sz="1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ANOTHER THEORY</a:t>
            </a:r>
            <a:endParaRPr b="0" lang="en-US" sz="5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Yummah Strawberriez"/>
                <a:ea typeface="Yummah Strawberriez"/>
              </a:rPr>
              <a:t>Because of the unsuccessful marriage with his former student, who was a female, and because of the sudden coldness received by the public because of his homosexuality, Peter committed suicide nine days after the premier of his 6</a:t>
            </a:r>
            <a:r>
              <a:rPr b="0" lang="en-US" sz="3200" spc="-1" strike="noStrike" baseline="30000">
                <a:solidFill>
                  <a:srgbClr val="000000"/>
                </a:solidFill>
                <a:latin typeface="Yummah Strawberriez"/>
                <a:ea typeface="Yummah Strawberriez"/>
              </a:rPr>
              <a:t>th</a:t>
            </a:r>
            <a:r>
              <a:rPr b="0" lang="en-US" sz="3200" spc="-1" strike="noStrike">
                <a:solidFill>
                  <a:srgbClr val="000000"/>
                </a:solidFill>
                <a:latin typeface="Yummah Strawberriez"/>
                <a:ea typeface="Yummah Strawberriez"/>
              </a:rPr>
              <a:t> symphony, Pathétique.</a:t>
            </a:r>
            <a:endParaRPr b="0" lang="en-US" sz="3200" spc="-1" strike="noStrike">
              <a:solidFill>
                <a:srgbClr val="000000"/>
              </a:solidFill>
              <a:latin typeface="Calibri"/>
            </a:endParaRPr>
          </a:p>
          <a:p>
            <a:pPr marL="315360" indent="-315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Yummah Strawberriez"/>
                <a:ea typeface="Yummah Strawberriez"/>
              </a:rPr>
              <a:t>The death of Peter Ilyich Tchaikovsky is uncertain at the moment.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BIBLIOGRAPHY</a:t>
            </a:r>
            <a:endParaRPr b="0" lang="en-US" sz="5400" spc="-1" strike="noStrike">
              <a:solidFill>
                <a:srgbClr val="000000"/>
              </a:solidFill>
              <a:latin typeface="Calibri"/>
            </a:endParaRPr>
          </a:p>
        </p:txBody>
      </p:sp>
      <p:sp>
        <p:nvSpPr>
          <p:cNvPr id="86" name=""/>
          <p:cNvSpPr txBox="1"/>
          <p:nvPr/>
        </p:nvSpPr>
        <p:spPr>
          <a:xfrm>
            <a:off x="457200" y="1447560"/>
            <a:ext cx="8229600" cy="525780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Yummah Strawberriez"/>
                <a:ea typeface="Yummah Strawberriez"/>
              </a:rPr>
              <a:t>"Essentials of Music - Composers." </a:t>
            </a:r>
            <a:r>
              <a:rPr b="0" lang="en-US" sz="2000" spc="-1" strike="noStrike" u="sng">
                <a:solidFill>
                  <a:srgbClr val="000000"/>
                </a:solidFill>
                <a:uFillTx/>
                <a:latin typeface="Yummah Strawberriez"/>
                <a:ea typeface="Yummah Strawberriez"/>
              </a:rPr>
              <a:t>Essentials of Music. 3 Dec. 2008 &lt;http://www.essentialsofmusic.com/composer/tchaikovsky.html&gt;.</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Yummah Strawberriez"/>
                <a:ea typeface="Yummah Strawberriez"/>
              </a:rPr>
              <a:t>"Peter Ilyich Tchaikovsky &amp;mdash; Infoplease.com." Infoplease: Encyclopedia, Almanac, Atlas, Biographies, Dictionary, Thesaurus. Free online reference, research &amp; homework help. &amp;mdash; Infoplease.com. 3 Dec. 2008 &lt;http://www.infoplease.com/ce6/people/A0848016.html&gt;.</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Yummah Strawberriez"/>
                <a:ea typeface="Yummah Strawberriez"/>
              </a:rPr>
              <a:t>"Peter Ilyich Tchaikovsky." NNDB: Tracking the entire world. 3 Dec. 2008 &lt;http://www.nndb.com/people/833/000087572/&gt;.</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Yummah Strawberriez"/>
                <a:ea typeface="Yummah Strawberriez"/>
              </a:rPr>
              <a:t>"Pyotr Ilyich Tchaikovsky - Wikipedia, the free encyclopedia." Wikipedia, the free encyclopedia. 3 Dec. 2008 &lt;http://en.wikipedia.org/wiki/Pyotr_Ilyich_Tchaikovsky#Death&gt;.</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Yummah Strawberriez"/>
                <a:ea typeface="Yummah Strawberriez"/>
              </a:rPr>
              <a:t>"Tchaikovsky Research : Life." Tchaikovsky Research. 3 Dec. 2008 &lt;http://www.tchaikovsky-research.net/en/features/life1.html&gt;.</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Yummah Strawberriez"/>
                <a:ea typeface="Yummah Strawberriez"/>
              </a:rPr>
              <a:t>"Peter Ilyich Tchaikovsky." World History: The Modern Era. 2008. ABC-CLIO. 3 Dec. 2008 &lt;http://www.worldhistory.abc-clio.com&g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752480"/>
            <a:ext cx="8229600" cy="320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bigattino"/>
                <a:ea typeface="bigattino"/>
              </a:rPr>
              <a:t>THE</a:t>
            </a:r>
            <a:br>
              <a:rPr sz="8000"/>
            </a:br>
            <a:r>
              <a:rPr b="0" lang="en-US" sz="15000" spc="-1" strike="noStrike">
                <a:solidFill>
                  <a:srgbClr val="000000"/>
                </a:solidFill>
                <a:latin typeface="loco tv"/>
                <a:ea typeface="loco tv"/>
              </a:rPr>
              <a:t>END!</a:t>
            </a:r>
            <a:endParaRPr b="0" lang="en-US" sz="1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44" name="Picture 14" descr=""/>
          <p:cNvPicPr/>
          <p:nvPr/>
        </p:nvPicPr>
        <p:blipFill>
          <a:blip r:embed="rId1"/>
          <a:stretch/>
        </p:blipFill>
        <p:spPr>
          <a:xfrm>
            <a:off x="0" y="0"/>
            <a:ext cx="1967040" cy="15318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Tchaikovsky,</a:t>
            </a:r>
            <a:br>
              <a:rPr sz="5400"/>
            </a:br>
            <a:r>
              <a:rPr b="0" lang="en-US" sz="3500" spc="-1" strike="noStrike">
                <a:solidFill>
                  <a:srgbClr val="000000"/>
                </a:solidFill>
                <a:latin typeface="bigattino"/>
                <a:ea typeface="bigattino"/>
              </a:rPr>
              <a:t>THE MAN</a:t>
            </a:r>
            <a:endParaRPr b="0" lang="en-US" sz="3500" spc="-1" strike="noStrike">
              <a:solidFill>
                <a:srgbClr val="000000"/>
              </a:solidFill>
              <a:latin typeface="Calibri"/>
            </a:endParaRPr>
          </a:p>
        </p:txBody>
      </p:sp>
      <p:sp>
        <p:nvSpPr>
          <p:cNvPr id="46" name="Rectangle 3"/>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 name="Picture 6" descr=""/>
          <p:cNvPicPr/>
          <p:nvPr/>
        </p:nvPicPr>
        <p:blipFill>
          <a:blip r:embed="rId2"/>
          <a:stretch/>
        </p:blipFill>
        <p:spPr>
          <a:xfrm>
            <a:off x="4343400" y="4051440"/>
            <a:ext cx="2286000" cy="2806560"/>
          </a:xfrm>
          <a:prstGeom prst="rect">
            <a:avLst/>
          </a:prstGeom>
          <a:ln w="0">
            <a:noFill/>
          </a:ln>
        </p:spPr>
      </p:pic>
      <p:pic>
        <p:nvPicPr>
          <p:cNvPr id="48" name="Picture 7" descr=""/>
          <p:cNvPicPr/>
          <p:nvPr/>
        </p:nvPicPr>
        <p:blipFill>
          <a:blip r:embed="rId3"/>
          <a:stretch/>
        </p:blipFill>
        <p:spPr>
          <a:xfrm>
            <a:off x="0" y="990720"/>
            <a:ext cx="3429000" cy="3949560"/>
          </a:xfrm>
          <a:prstGeom prst="rect">
            <a:avLst/>
          </a:prstGeom>
          <a:ln w="0">
            <a:noFill/>
          </a:ln>
        </p:spPr>
      </p:pic>
      <p:pic>
        <p:nvPicPr>
          <p:cNvPr id="49" name="Picture 8" descr=""/>
          <p:cNvPicPr/>
          <p:nvPr/>
        </p:nvPicPr>
        <p:blipFill>
          <a:blip r:embed="rId4"/>
          <a:stretch/>
        </p:blipFill>
        <p:spPr>
          <a:xfrm>
            <a:off x="3174840" y="1531800"/>
            <a:ext cx="2565720" cy="2519640"/>
          </a:xfrm>
          <a:prstGeom prst="rect">
            <a:avLst/>
          </a:prstGeom>
          <a:ln w="0">
            <a:noFill/>
          </a:ln>
        </p:spPr>
      </p:pic>
      <p:pic>
        <p:nvPicPr>
          <p:cNvPr id="50" name="Picture 9" descr=""/>
          <p:cNvPicPr/>
          <p:nvPr/>
        </p:nvPicPr>
        <p:blipFill>
          <a:blip r:embed="rId5"/>
          <a:stretch/>
        </p:blipFill>
        <p:spPr>
          <a:xfrm>
            <a:off x="2057400" y="3403440"/>
            <a:ext cx="2286000" cy="3454560"/>
          </a:xfrm>
          <a:prstGeom prst="rect">
            <a:avLst/>
          </a:prstGeom>
          <a:ln w="0">
            <a:noFill/>
          </a:ln>
        </p:spPr>
      </p:pic>
      <p:pic>
        <p:nvPicPr>
          <p:cNvPr id="51" name="Picture 10" descr=""/>
          <p:cNvPicPr/>
          <p:nvPr/>
        </p:nvPicPr>
        <p:blipFill>
          <a:blip r:embed="rId6"/>
          <a:stretch/>
        </p:blipFill>
        <p:spPr>
          <a:xfrm>
            <a:off x="0" y="4172040"/>
            <a:ext cx="2057400" cy="2685960"/>
          </a:xfrm>
          <a:prstGeom prst="rect">
            <a:avLst/>
          </a:prstGeom>
          <a:ln w="0">
            <a:noFill/>
          </a:ln>
        </p:spPr>
      </p:pic>
      <p:pic>
        <p:nvPicPr>
          <p:cNvPr id="52" name="Picture 13" descr=""/>
          <p:cNvPicPr/>
          <p:nvPr/>
        </p:nvPicPr>
        <p:blipFill>
          <a:blip r:embed="rId7"/>
          <a:stretch/>
        </p:blipFill>
        <p:spPr>
          <a:xfrm>
            <a:off x="7162920" y="0"/>
            <a:ext cx="2057400" cy="3733920"/>
          </a:xfrm>
          <a:prstGeom prst="rect">
            <a:avLst/>
          </a:prstGeom>
          <a:ln w="0">
            <a:noFill/>
          </a:ln>
        </p:spPr>
      </p:pic>
      <p:pic>
        <p:nvPicPr>
          <p:cNvPr id="53" name="Picture 12" descr=""/>
          <p:cNvPicPr/>
          <p:nvPr/>
        </p:nvPicPr>
        <p:blipFill>
          <a:blip r:embed="rId8"/>
          <a:stretch/>
        </p:blipFill>
        <p:spPr>
          <a:xfrm>
            <a:off x="5486400" y="1054080"/>
            <a:ext cx="2286000" cy="2997360"/>
          </a:xfrm>
          <a:prstGeom prst="rect">
            <a:avLst/>
          </a:prstGeom>
          <a:ln w="0">
            <a:noFill/>
          </a:ln>
        </p:spPr>
      </p:pic>
      <p:pic>
        <p:nvPicPr>
          <p:cNvPr id="54" name="Picture 11" descr=""/>
          <p:cNvPicPr/>
          <p:nvPr/>
        </p:nvPicPr>
        <p:blipFill>
          <a:blip r:embed="rId9"/>
          <a:stretch/>
        </p:blipFill>
        <p:spPr>
          <a:xfrm>
            <a:off x="6600960" y="3733920"/>
            <a:ext cx="2543040" cy="313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BIOGRAPHY</a:t>
            </a:r>
            <a:endParaRPr b="0" lang="en-US" sz="5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Yummah Strawberriez"/>
                <a:ea typeface="Yummah Strawberriez"/>
              </a:rPr>
              <a:t>Revolutionary Russian composer </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Yummah Strawberriez"/>
                <a:ea typeface="Yummah Strawberriez"/>
              </a:rPr>
              <a:t>mid 19</a:t>
            </a:r>
            <a:r>
              <a:rPr b="0" lang="en-US" sz="2400" spc="-1" strike="noStrike" baseline="30000">
                <a:solidFill>
                  <a:srgbClr val="000000"/>
                </a:solidFill>
                <a:latin typeface="Yummah Strawberriez"/>
                <a:ea typeface="Yummah Strawberriez"/>
              </a:rPr>
              <a:t>th</a:t>
            </a:r>
            <a:r>
              <a:rPr b="0" lang="en-US" sz="2400" spc="-1" strike="noStrike">
                <a:solidFill>
                  <a:srgbClr val="000000"/>
                </a:solidFill>
                <a:latin typeface="Yummah Strawberriez"/>
                <a:ea typeface="Yummah Strawberriez"/>
              </a:rPr>
              <a:t> century (1840-1893)</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Yummah Strawberriez"/>
                <a:ea typeface="Yummah Strawberriez"/>
              </a:rPr>
              <a:t>Sent to School of Jurisprudence in St. Petersburg by parents</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Yummah Strawberriez"/>
                <a:ea typeface="Yummah Strawberriez"/>
              </a:rPr>
              <a:t>passionate about the works of Mozart, Verdi, Rossini, and Bellini</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Yummah Strawberriez"/>
                <a:ea typeface="Yummah Strawberriez"/>
              </a:rPr>
              <a:t>obtained his first job as a bureau clerk in the Ministry of Justice. </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Yummah Strawberriez"/>
                <a:ea typeface="Yummah Strawberriez"/>
              </a:rPr>
              <a:t>abandoned the post officially when Anton Rubenstein opened a conservatory in St. Petersburg in 1862</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Yummah Strawberriez"/>
                <a:ea typeface="Yummah Strawberriez"/>
              </a:rPr>
              <a:t>began composing many of his masterpieces such as </a:t>
            </a:r>
            <a:r>
              <a:rPr b="0" i="1" lang="en-US" sz="2400" spc="-1" strike="noStrike">
                <a:solidFill>
                  <a:srgbClr val="000000"/>
                </a:solidFill>
                <a:latin typeface="Yummah Strawberriez"/>
                <a:ea typeface="Yummah Strawberriez"/>
              </a:rPr>
              <a:t>Characteristic Dances, Overture in F,</a:t>
            </a:r>
            <a:r>
              <a:rPr b="0" lang="en-US" sz="2400" spc="-1" strike="noStrike">
                <a:solidFill>
                  <a:srgbClr val="000000"/>
                </a:solidFill>
                <a:latin typeface="Yummah Strawberriez"/>
                <a:ea typeface="Yummah Strawberriez"/>
              </a:rPr>
              <a:t> and a cantata called</a:t>
            </a:r>
            <a:r>
              <a:rPr b="0" i="1" lang="en-US" sz="2400" spc="-1" strike="noStrike">
                <a:solidFill>
                  <a:srgbClr val="000000"/>
                </a:solidFill>
                <a:latin typeface="Yummah Strawberriez"/>
                <a:ea typeface="Yummah Strawberriez"/>
              </a:rPr>
              <a:t> Ode to Joy.</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
          <p:cNvSpPr/>
          <p:nvPr/>
        </p:nvSpPr>
        <p:spPr>
          <a:xfrm>
            <a:off x="-76320" y="5164200"/>
            <a:ext cx="9418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NOCTURNAL_EXPERIENCE"/>
                <a:ea typeface="NOCTURNAL_EXPERIENCE"/>
              </a:rPr>
              <a:t>OHGEZMANHOWTHEFI</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Long version</a:t>
            </a:r>
            <a:endParaRPr b="0" lang="en-US" sz="5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Yummah Strawberriez"/>
                <a:ea typeface="Yummah Strawberriez"/>
              </a:rPr>
              <a:t>Peter Ilyich Tchaikovsky is a Russian composer from the mid 19</a:t>
            </a:r>
            <a:r>
              <a:rPr b="0" lang="en-US" sz="2000" spc="-1" strike="noStrike" baseline="30000">
                <a:solidFill>
                  <a:srgbClr val="000000"/>
                </a:solidFill>
                <a:latin typeface="Yummah Strawberriez"/>
                <a:ea typeface="Yummah Strawberriez"/>
              </a:rPr>
              <a:t>th</a:t>
            </a:r>
            <a:r>
              <a:rPr b="0" lang="en-US" sz="2000" spc="-1" strike="noStrike">
                <a:solidFill>
                  <a:srgbClr val="000000"/>
                </a:solidFill>
                <a:latin typeface="Yummah Strawberriez"/>
                <a:ea typeface="Yummah Strawberriez"/>
              </a:rPr>
              <a:t> century. Peter originally started piano lessons at the age of 4 with a local teacher. However, soon his parents’ interest in music died and Peter was sent to a school for the “lesser nobility” called the School of Jurisprudence in St. Petersburg. Nonetheless, while attending this school Peter was able to continue to pursue a life in music by means of going to theatres and the opera regularly with fellow peers. He was passionate about the works of Mozart, Verdi, Rossini, and Bellini, and had a keen interest in the piano manufacturer that sometimes visited the school. Because music was not Peter’s main focus of study in his teenage years, Peter obtained his first job as a bureau clerk in the Ministry of Justice. However, after 3 years of committing to this job, Peter found that his true passion was in music and abandoned the post officially when Anton Rubenstein opened a conservatory in St. Petersburg in 1862. Peter graduated the conservatory after two years and began composing many of his masterpieces such as </a:t>
            </a:r>
            <a:r>
              <a:rPr b="0" i="1" lang="en-US" sz="2000" spc="-1" strike="noStrike">
                <a:solidFill>
                  <a:srgbClr val="000000"/>
                </a:solidFill>
                <a:latin typeface="Yummah Strawberriez"/>
                <a:ea typeface="Yummah Strawberriez"/>
              </a:rPr>
              <a:t>Characteristic Dances, Overture in F,</a:t>
            </a:r>
            <a:r>
              <a:rPr b="0" lang="en-US" sz="2000" spc="-1" strike="noStrike">
                <a:solidFill>
                  <a:srgbClr val="000000"/>
                </a:solidFill>
                <a:latin typeface="Yummah Strawberriez"/>
                <a:ea typeface="Yummah Strawberriez"/>
              </a:rPr>
              <a:t> and a cantata called</a:t>
            </a:r>
            <a:r>
              <a:rPr b="0" i="1" lang="en-US" sz="2000" spc="-1" strike="noStrike">
                <a:solidFill>
                  <a:srgbClr val="000000"/>
                </a:solidFill>
                <a:latin typeface="Yummah Strawberriez"/>
                <a:ea typeface="Yummah Strawberriez"/>
              </a:rPr>
              <a:t> Ode to Joy.</a:t>
            </a: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
            <a:ext cx="8229600" cy="1630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EXAMPLES</a:t>
            </a:r>
            <a:br>
              <a:rPr sz="5400"/>
            </a:br>
            <a:r>
              <a:rPr b="0" lang="en-US" sz="3500" spc="-1" strike="noStrike">
                <a:solidFill>
                  <a:srgbClr val="000000"/>
                </a:solidFill>
                <a:latin typeface="bigattino"/>
                <a:ea typeface="bigattino"/>
              </a:rPr>
              <a:t>OF HIS WORK</a:t>
            </a:r>
            <a:endParaRPr b="0" lang="en-US" sz="3500" spc="-1" strike="noStrike">
              <a:solidFill>
                <a:srgbClr val="000000"/>
              </a:solidFill>
              <a:latin typeface="Calibri"/>
            </a:endParaRPr>
          </a:p>
        </p:txBody>
      </p:sp>
      <p:sp>
        <p:nvSpPr>
          <p:cNvPr id="61" name=""/>
          <p:cNvSpPr txBox="1"/>
          <p:nvPr/>
        </p:nvSpPr>
        <p:spPr>
          <a:xfrm>
            <a:off x="457200" y="1706040"/>
            <a:ext cx="8229600" cy="4999320"/>
          </a:xfrm>
          <a:prstGeom prst="rect">
            <a:avLst/>
          </a:prstGeom>
          <a:noFill/>
          <a:ln w="0">
            <a:noFill/>
          </a:ln>
        </p:spPr>
        <p:txBody>
          <a:bodyPr anchor="t">
            <a:normAutofit fontScale="95000"/>
          </a:bodyPr>
          <a:p>
            <a:pPr marL="325800" indent="-32580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Yummah Strawberriez"/>
                <a:ea typeface="Yummah Strawberriez"/>
              </a:rPr>
              <a:t>3 ballets: </a:t>
            </a:r>
            <a:r>
              <a:rPr b="1" lang="en-US" sz="2900" spc="-1" strike="noStrike" u="sng">
                <a:solidFill>
                  <a:srgbClr val="000000"/>
                </a:solidFill>
                <a:uFillTx/>
                <a:latin typeface="Yummah Strawberriez"/>
                <a:ea typeface="Yummah Strawberriez"/>
              </a:rPr>
              <a:t>Swan Lake </a:t>
            </a:r>
            <a:r>
              <a:rPr b="1" lang="en-US" sz="2900" spc="-1" strike="noStrike">
                <a:solidFill>
                  <a:srgbClr val="000000"/>
                </a:solidFill>
                <a:latin typeface="Yummah Strawberriez"/>
                <a:ea typeface="Yummah Strawberriez"/>
              </a:rPr>
              <a:t>(1877), </a:t>
            </a:r>
            <a:r>
              <a:rPr b="1" lang="en-US" sz="2900" spc="-1" strike="noStrike" u="sng">
                <a:solidFill>
                  <a:srgbClr val="000000"/>
                </a:solidFill>
                <a:uFillTx/>
                <a:latin typeface="Yummah Strawberriez"/>
                <a:ea typeface="Yummah Strawberriez"/>
              </a:rPr>
              <a:t>The Sleeping Beauty </a:t>
            </a:r>
            <a:r>
              <a:rPr b="1" lang="en-US" sz="2900" spc="-1" strike="noStrike">
                <a:solidFill>
                  <a:srgbClr val="000000"/>
                </a:solidFill>
                <a:latin typeface="Yummah Strawberriez"/>
                <a:ea typeface="Yummah Strawberriez"/>
              </a:rPr>
              <a:t>(1890) and </a:t>
            </a:r>
            <a:r>
              <a:rPr b="1" lang="en-US" sz="2900" spc="-1" strike="noStrike" u="sng">
                <a:solidFill>
                  <a:srgbClr val="000000"/>
                </a:solidFill>
                <a:uFillTx/>
                <a:latin typeface="Yummah Strawberriez"/>
                <a:ea typeface="Yummah Strawberriez"/>
              </a:rPr>
              <a:t>The Nutcracker </a:t>
            </a:r>
            <a:r>
              <a:rPr b="1" lang="en-US" sz="2900" spc="-1" strike="noStrike">
                <a:solidFill>
                  <a:srgbClr val="000000"/>
                </a:solidFill>
                <a:latin typeface="Yummah Strawberriez"/>
                <a:ea typeface="Yummah Strawberriez"/>
              </a:rPr>
              <a:t>(1892)</a:t>
            </a:r>
            <a:endParaRPr b="0" lang="en-US" sz="2900" spc="-1" strike="noStrike">
              <a:solidFill>
                <a:srgbClr val="000000"/>
              </a:solidFill>
              <a:latin typeface="Calibri"/>
            </a:endParaRPr>
          </a:p>
          <a:p>
            <a:pPr marL="325800" indent="-32580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Yummah Strawberriez"/>
                <a:ea typeface="Yummah Strawberriez"/>
              </a:rPr>
              <a:t>8 operas: including </a:t>
            </a:r>
            <a:r>
              <a:rPr b="1" lang="en-US" sz="2900" spc="-1" strike="noStrike" u="sng">
                <a:solidFill>
                  <a:srgbClr val="000000"/>
                </a:solidFill>
                <a:uFillTx/>
                <a:latin typeface="Yummah Strawberriez"/>
                <a:ea typeface="Yummah Strawberriez"/>
              </a:rPr>
              <a:t>Eugene Onegin</a:t>
            </a:r>
            <a:r>
              <a:rPr b="1" lang="en-US" sz="2900" spc="-1" strike="noStrike">
                <a:solidFill>
                  <a:srgbClr val="000000"/>
                </a:solidFill>
                <a:latin typeface="Yummah Strawberriez"/>
                <a:ea typeface="Yummah Strawberriez"/>
              </a:rPr>
              <a:t> (1879) and </a:t>
            </a:r>
            <a:r>
              <a:rPr b="1" lang="en-US" sz="2900" spc="-1" strike="noStrike" u="sng">
                <a:solidFill>
                  <a:srgbClr val="000000"/>
                </a:solidFill>
                <a:uFillTx/>
                <a:latin typeface="Yummah Strawberriez"/>
                <a:ea typeface="Yummah Strawberriez"/>
              </a:rPr>
              <a:t>Pique Dame</a:t>
            </a:r>
            <a:r>
              <a:rPr b="1" lang="en-US" sz="2900" spc="-1" strike="noStrike">
                <a:solidFill>
                  <a:srgbClr val="000000"/>
                </a:solidFill>
                <a:latin typeface="Yummah Strawberriez"/>
                <a:ea typeface="Yummah Strawberriez"/>
              </a:rPr>
              <a:t> (</a:t>
            </a:r>
            <a:r>
              <a:rPr b="1" i="1" lang="en-US" sz="2900" spc="-1" strike="noStrike">
                <a:solidFill>
                  <a:srgbClr val="000000"/>
                </a:solidFill>
                <a:latin typeface="Yummah Strawberriez"/>
                <a:ea typeface="Yummah Strawberriez"/>
              </a:rPr>
              <a:t>The Queen of Spades</a:t>
            </a:r>
            <a:r>
              <a:rPr b="1" lang="en-US" sz="2900" spc="-1" strike="noStrike">
                <a:solidFill>
                  <a:srgbClr val="000000"/>
                </a:solidFill>
                <a:latin typeface="Yummah Strawberriez"/>
                <a:ea typeface="Yummah Strawberriez"/>
              </a:rPr>
              <a:t>, 1890)</a:t>
            </a:r>
            <a:endParaRPr b="0" lang="en-US" sz="2900" spc="-1" strike="noStrike">
              <a:solidFill>
                <a:srgbClr val="000000"/>
              </a:solidFill>
              <a:latin typeface="Calibri"/>
            </a:endParaRPr>
          </a:p>
          <a:p>
            <a:pPr marL="325800" indent="-32580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Yummah Strawberriez"/>
                <a:ea typeface="Yummah Strawberriez"/>
              </a:rPr>
              <a:t>Orchestral music: including 7 symphonies (</a:t>
            </a:r>
            <a:r>
              <a:rPr b="1" lang="en-US" sz="2900" spc="-1" strike="noStrike">
                <a:solidFill>
                  <a:srgbClr val="000000"/>
                </a:solidFill>
                <a:latin typeface="Yummah Strawberriez"/>
                <a:ea typeface="Yummah Strawberriez"/>
              </a:rPr>
              <a:t>No.1</a:t>
            </a:r>
            <a:r>
              <a:rPr b="0" lang="en-US" sz="2900" spc="-1" strike="noStrike">
                <a:solidFill>
                  <a:srgbClr val="000000"/>
                </a:solidFill>
                <a:latin typeface="Yummah Strawberriez"/>
                <a:ea typeface="Yummah Strawberriez"/>
              </a:rPr>
              <a:t>, 1866; </a:t>
            </a:r>
            <a:r>
              <a:rPr b="1" lang="en-US" sz="2900" spc="-1" strike="noStrike">
                <a:solidFill>
                  <a:srgbClr val="000000"/>
                </a:solidFill>
                <a:latin typeface="Yummah Strawberriez"/>
                <a:ea typeface="Yummah Strawberriez"/>
              </a:rPr>
              <a:t>No.2</a:t>
            </a:r>
            <a:r>
              <a:rPr b="0" lang="en-US" sz="2900" spc="-1" strike="noStrike">
                <a:solidFill>
                  <a:srgbClr val="000000"/>
                </a:solidFill>
                <a:latin typeface="Yummah Strawberriez"/>
                <a:ea typeface="Yummah Strawberriez"/>
              </a:rPr>
              <a:t>, 1872; </a:t>
            </a:r>
            <a:r>
              <a:rPr b="1" lang="en-US" sz="2900" spc="-1" strike="noStrike">
                <a:solidFill>
                  <a:srgbClr val="000000"/>
                </a:solidFill>
                <a:latin typeface="Yummah Strawberriez"/>
                <a:ea typeface="Yummah Strawberriez"/>
              </a:rPr>
              <a:t>No.3</a:t>
            </a:r>
            <a:r>
              <a:rPr b="0" lang="en-US" sz="2900" spc="-1" strike="noStrike">
                <a:solidFill>
                  <a:srgbClr val="000000"/>
                </a:solidFill>
                <a:latin typeface="Yummah Strawberriez"/>
                <a:ea typeface="Yummah Strawberriez"/>
              </a:rPr>
              <a:t>, 1875; </a:t>
            </a:r>
            <a:r>
              <a:rPr b="1" lang="en-US" sz="2900" spc="-1" strike="noStrike">
                <a:solidFill>
                  <a:srgbClr val="000000"/>
                </a:solidFill>
                <a:latin typeface="Yummah Strawberriez"/>
                <a:ea typeface="Yummah Strawberriez"/>
              </a:rPr>
              <a:t>No.4</a:t>
            </a:r>
            <a:r>
              <a:rPr b="0" lang="en-US" sz="2900" spc="-1" strike="noStrike">
                <a:solidFill>
                  <a:srgbClr val="000000"/>
                </a:solidFill>
                <a:latin typeface="Yummah Strawberriez"/>
                <a:ea typeface="Yummah Strawberriez"/>
              </a:rPr>
              <a:t>, 1878; </a:t>
            </a:r>
            <a:r>
              <a:rPr b="1" lang="en-US" sz="2900" spc="-1" strike="noStrike">
                <a:solidFill>
                  <a:srgbClr val="000000"/>
                </a:solidFill>
                <a:latin typeface="Yummah Strawberriez"/>
                <a:ea typeface="Yummah Strawberriez"/>
              </a:rPr>
              <a:t>No.5</a:t>
            </a:r>
            <a:r>
              <a:rPr b="0" lang="en-US" sz="2900" spc="-1" strike="noStrike">
                <a:solidFill>
                  <a:srgbClr val="000000"/>
                </a:solidFill>
                <a:latin typeface="Yummah Strawberriez"/>
                <a:ea typeface="Yummah Strawberriez"/>
              </a:rPr>
              <a:t>, 1888; </a:t>
            </a:r>
            <a:r>
              <a:rPr b="1" lang="en-US" sz="2900" spc="-1" strike="noStrike">
                <a:solidFill>
                  <a:srgbClr val="000000"/>
                </a:solidFill>
                <a:latin typeface="Yummah Strawberriez"/>
                <a:ea typeface="Yummah Strawberriez"/>
              </a:rPr>
              <a:t>No.6 </a:t>
            </a:r>
            <a:r>
              <a:rPr b="0" lang="en-US" sz="2900" spc="-1" strike="noStrike">
                <a:solidFill>
                  <a:srgbClr val="000000"/>
                </a:solidFill>
                <a:latin typeface="Yummah Strawberriez"/>
                <a:ea typeface="Yummah Strawberriez"/>
              </a:rPr>
              <a:t>"</a:t>
            </a:r>
            <a:r>
              <a:rPr b="1" i="1" lang="en-US" sz="2900" spc="-1" strike="noStrike">
                <a:solidFill>
                  <a:srgbClr val="000000"/>
                </a:solidFill>
                <a:latin typeface="Yummah Strawberriez"/>
                <a:ea typeface="Yummah Strawberriez"/>
              </a:rPr>
              <a:t>Pathétique</a:t>
            </a:r>
            <a:r>
              <a:rPr b="0" lang="en-US" sz="2900" spc="-1" strike="noStrike">
                <a:solidFill>
                  <a:srgbClr val="000000"/>
                </a:solidFill>
                <a:latin typeface="Yummah Strawberriez"/>
                <a:ea typeface="Yummah Strawberriez"/>
              </a:rPr>
              <a:t>", 1893; </a:t>
            </a:r>
            <a:r>
              <a:rPr b="1" i="1" lang="en-US" sz="2900" spc="-1" strike="noStrike">
                <a:solidFill>
                  <a:srgbClr val="000000"/>
                </a:solidFill>
                <a:latin typeface="Yummah Strawberriez"/>
                <a:ea typeface="Yummah Strawberriez"/>
              </a:rPr>
              <a:t>Manfred</a:t>
            </a:r>
            <a:r>
              <a:rPr b="0" lang="en-US" sz="2900" spc="-1" strike="noStrike">
                <a:solidFill>
                  <a:srgbClr val="000000"/>
                </a:solidFill>
                <a:latin typeface="Yummah Strawberriez"/>
                <a:ea typeface="Yummah Strawberriez"/>
              </a:rPr>
              <a:t>, 1885)</a:t>
            </a:r>
            <a:endParaRPr b="0" lang="en-US" sz="2900" spc="-1" strike="noStrike">
              <a:solidFill>
                <a:srgbClr val="000000"/>
              </a:solidFill>
              <a:latin typeface="Calibri"/>
            </a:endParaRPr>
          </a:p>
          <a:p>
            <a:pPr marL="325800" indent="-32580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Yummah Strawberriez"/>
                <a:ea typeface="Yummah Strawberriez"/>
              </a:rPr>
              <a:t>Piano Concerto </a:t>
            </a:r>
            <a:r>
              <a:rPr b="1" lang="en-US" sz="2900" spc="-1" strike="noStrike">
                <a:solidFill>
                  <a:srgbClr val="000000"/>
                </a:solidFill>
                <a:latin typeface="Yummah Strawberriez"/>
                <a:ea typeface="Yummah Strawberriez"/>
              </a:rPr>
              <a:t>No. 1 in B-flat minor, Op. 23</a:t>
            </a:r>
            <a:endParaRPr b="0" lang="en-US" sz="2900" spc="-1" strike="noStrike">
              <a:solidFill>
                <a:srgbClr val="000000"/>
              </a:solidFill>
              <a:latin typeface="Calibri"/>
            </a:endParaRPr>
          </a:p>
          <a:p>
            <a:pPr marL="325800" indent="-32580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Yummah Strawberriez"/>
                <a:ea typeface="Yummah Strawberriez"/>
              </a:rPr>
              <a:t>Violin Concerto in </a:t>
            </a:r>
            <a:r>
              <a:rPr b="1" lang="en-US" sz="2900" spc="-1" strike="noStrike">
                <a:solidFill>
                  <a:srgbClr val="000000"/>
                </a:solidFill>
                <a:latin typeface="Yummah Strawberriez"/>
                <a:ea typeface="Yummah Strawberriez"/>
              </a:rPr>
              <a:t>D major, Op. 35</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SAMPLES</a:t>
            </a:r>
            <a:br>
              <a:rPr sz="5400"/>
            </a:br>
            <a:r>
              <a:rPr b="0" lang="en-US" sz="3500" spc="-1" strike="noStrike">
                <a:solidFill>
                  <a:srgbClr val="000000"/>
                </a:solidFill>
                <a:latin typeface="bigattino"/>
                <a:ea typeface="bigattino"/>
              </a:rPr>
              <a:t>OF HIS WORK</a:t>
            </a:r>
            <a:endParaRPr b="0" lang="en-US" sz="3500" spc="-1" strike="noStrike">
              <a:solidFill>
                <a:srgbClr val="000000"/>
              </a:solidFill>
              <a:latin typeface="Calibri"/>
            </a:endParaRPr>
          </a:p>
        </p:txBody>
      </p:sp>
      <p:sp>
        <p:nvSpPr>
          <p:cNvPr id="63" name="TextBox 2"/>
          <p:cNvSpPr/>
          <p:nvPr/>
        </p:nvSpPr>
        <p:spPr>
          <a:xfrm>
            <a:off x="1411920" y="3103560"/>
            <a:ext cx="55699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Yummah Strawberriez"/>
                <a:ea typeface="Yummah Strawberriez"/>
              </a:rPr>
              <a:t>Dance of the Swans from </a:t>
            </a:r>
            <a:r>
              <a:rPr b="0" lang="en-US" sz="2500" spc="-1" strike="noStrike" u="sng">
                <a:solidFill>
                  <a:srgbClr val="000000"/>
                </a:solidFill>
                <a:uFillTx/>
                <a:latin typeface="Yummah Strawberriez"/>
                <a:ea typeface="Yummah Strawberriez"/>
              </a:rPr>
              <a:t>Swan Lake</a:t>
            </a:r>
            <a:endParaRPr b="0" lang="en-US" sz="2500" spc="-1" strike="noStrike">
              <a:solidFill>
                <a:srgbClr val="000000"/>
              </a:solidFill>
              <a:latin typeface="Arial"/>
            </a:endParaRPr>
          </a:p>
        </p:txBody>
      </p:sp>
      <p:sp>
        <p:nvSpPr>
          <p:cNvPr id="64" name="TextBox 3"/>
          <p:cNvSpPr/>
          <p:nvPr/>
        </p:nvSpPr>
        <p:spPr>
          <a:xfrm>
            <a:off x="1428480" y="4170240"/>
            <a:ext cx="56793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Yummah Strawberriez"/>
                <a:ea typeface="Yummah Strawberriez"/>
              </a:rPr>
              <a:t>A Time For US from </a:t>
            </a:r>
            <a:r>
              <a:rPr b="0" lang="en-US" sz="2500" spc="-1" strike="noStrike" u="sng">
                <a:solidFill>
                  <a:srgbClr val="000000"/>
                </a:solidFill>
                <a:uFillTx/>
                <a:latin typeface="Yummah Strawberriez"/>
                <a:ea typeface="Yummah Strawberriez"/>
              </a:rPr>
              <a:t>Romeo and Juliet</a:t>
            </a:r>
            <a:endParaRPr b="0" lang="en-US" sz="2500" spc="-1" strike="noStrike">
              <a:solidFill>
                <a:srgbClr val="000000"/>
              </a:solidFill>
              <a:latin typeface="Arial"/>
            </a:endParaRPr>
          </a:p>
        </p:txBody>
      </p:sp>
      <p:pic>
        <p:nvPicPr>
          <p:cNvPr id="65" name="Swan Lake - Dance Of The Swans.mp3" descr=""/>
          <p:cNvPicPr/>
          <p:nvPr/>
        </p:nvPicPr>
        <p:blipFill>
          <a:blip r:embed="rId1"/>
          <a:stretch/>
        </p:blipFill>
        <p:spPr>
          <a:xfrm>
            <a:off x="914400" y="3222720"/>
            <a:ext cx="282600" cy="282600"/>
          </a:xfrm>
          <a:prstGeom prst="rect">
            <a:avLst/>
          </a:prstGeom>
          <a:ln w="0">
            <a:noFill/>
          </a:ln>
        </p:spPr>
      </p:pic>
      <p:pic>
        <p:nvPicPr>
          <p:cNvPr id="66" name="Tchaikovsky- Romeo and Juliet - A Time For Us.mp3" descr=""/>
          <p:cNvPicPr/>
          <p:nvPr/>
        </p:nvPicPr>
        <p:blipFill>
          <a:blip r:embed="rId2"/>
          <a:stretch/>
        </p:blipFill>
        <p:spPr>
          <a:xfrm>
            <a:off x="914400" y="4365720"/>
            <a:ext cx="282600" cy="282600"/>
          </a:xfrm>
          <a:prstGeom prst="rect">
            <a:avLst/>
          </a:prstGeom>
          <a:ln w="0">
            <a:noFill/>
          </a:ln>
        </p:spPr>
      </p:pic>
      <p:pic>
        <p:nvPicPr>
          <p:cNvPr id="67" name="Arabian Dance.mp3" descr=""/>
          <p:cNvPicPr/>
          <p:nvPr/>
        </p:nvPicPr>
        <p:blipFill>
          <a:blip r:embed="rId3"/>
          <a:stretch/>
        </p:blipFill>
        <p:spPr>
          <a:xfrm>
            <a:off x="914400" y="5356080"/>
            <a:ext cx="282600" cy="282600"/>
          </a:xfrm>
          <a:prstGeom prst="rect">
            <a:avLst/>
          </a:prstGeom>
          <a:ln w="0">
            <a:noFill/>
          </a:ln>
        </p:spPr>
      </p:pic>
      <p:sp>
        <p:nvSpPr>
          <p:cNvPr id="68" name="TextBox 7"/>
          <p:cNvSpPr/>
          <p:nvPr/>
        </p:nvSpPr>
        <p:spPr>
          <a:xfrm>
            <a:off x="1373760" y="5237280"/>
            <a:ext cx="63637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Yummah Strawberriez"/>
                <a:ea typeface="Yummah Strawberriez"/>
              </a:rPr>
              <a:t>Arabian Dance from </a:t>
            </a:r>
            <a:r>
              <a:rPr b="0" lang="en-US" sz="2500" spc="-1" strike="noStrike" u="sng">
                <a:solidFill>
                  <a:srgbClr val="000000"/>
                </a:solidFill>
                <a:uFillTx/>
                <a:latin typeface="Yummah Strawberriez"/>
                <a:ea typeface="Yummah Strawberriez"/>
              </a:rPr>
              <a:t>The Nutcracker Suite</a:t>
            </a:r>
            <a:endParaRPr b="0" lang="en-US" sz="2500" spc="-1" strike="noStrike">
              <a:solidFill>
                <a:srgbClr val="000000"/>
              </a:solidFill>
              <a:latin typeface="Arial"/>
            </a:endParaRPr>
          </a:p>
        </p:txBody>
      </p:sp>
      <p:sp>
        <p:nvSpPr>
          <p:cNvPr id="69" name="TextBox 8"/>
          <p:cNvSpPr/>
          <p:nvPr/>
        </p:nvSpPr>
        <p:spPr>
          <a:xfrm>
            <a:off x="1192320" y="2057400"/>
            <a:ext cx="8599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Yummah Strawberriez"/>
                <a:ea typeface="Yummah Strawberriez"/>
              </a:rPr>
              <a:t>Dance of the Sugarplum Fairy from </a:t>
            </a:r>
            <a:r>
              <a:rPr b="0" lang="en-US" sz="2500" spc="-1" strike="noStrike" u="sng">
                <a:solidFill>
                  <a:srgbClr val="000000"/>
                </a:solidFill>
                <a:uFillTx/>
                <a:latin typeface="Yummah Strawberriez"/>
                <a:ea typeface="Yummah Strawberriez"/>
              </a:rPr>
              <a:t>The Nutcracker Suite</a:t>
            </a:r>
            <a:endParaRPr b="0" lang="en-US" sz="2500" spc="-1" strike="noStrike">
              <a:solidFill>
                <a:srgbClr val="000000"/>
              </a:solidFill>
              <a:latin typeface="Arial"/>
            </a:endParaRPr>
          </a:p>
        </p:txBody>
      </p:sp>
      <p:pic>
        <p:nvPicPr>
          <p:cNvPr id="70" name="Dance of the Sugarplum Fairy.mp3" descr=""/>
          <p:cNvPicPr/>
          <p:nvPr/>
        </p:nvPicPr>
        <p:blipFill>
          <a:blip r:embed="rId4"/>
          <a:stretch/>
        </p:blipFill>
        <p:spPr>
          <a:xfrm>
            <a:off x="914400" y="2133720"/>
            <a:ext cx="282600" cy="28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5"/>
                    </p:tgtEl>
                  </p:cond>
                </p:stCondLst>
                <p:childTnLst>
                  <p:par>
                    <p:cTn id="3" fill="hold">
                      <p:stCondLst>
                        <p:cond evt="onClick">
                          <p:tgtEl>
                            <p:spTgt spid="65"/>
                          </p:tgtEl>
                        </p:cond>
                      </p:stCondLst>
                      <p:childTnLst>
                        <p:par>
                          <p:cTn id="4" fill="hold">
                            <p:stCondLst>
                              <p:cond delay="0"/>
                            </p:stCondLst>
                            <p:childTnLst>
                              <p:par>
                                <p:cTn id="5" nodeType="clickEffect" fill="hold" presetClass="mediacall" presetID="1">
                                  <p:stCondLst>
                                    <p:cond delay="0"/>
                                  </p:stCondLst>
                                  <p:childTnLst>
                                    <p:cmd type="call" cmd="playFrom(0.0)">
                                      <p:cBhvr>
                                        <p:cTn id="6" dur="94040" fill="hold"/>
                                        <p:tgtEl>
                                          <p:spTgt spid="6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6"/>
                    </p:tgtEl>
                  </p:cond>
                </p:stCondLst>
                <p:childTnLst>
                  <p:par>
                    <p:cTn id="8" fill="hold">
                      <p:stCondLst>
                        <p:cond evt="onClick">
                          <p:tgtEl>
                            <p:spTgt spid="66"/>
                          </p:tgtEl>
                        </p:cond>
                      </p:stCondLst>
                      <p:childTnLst>
                        <p:par>
                          <p:cTn id="9" fill="hold">
                            <p:stCondLst>
                              <p:cond delay="0"/>
                            </p:stCondLst>
                            <p:childTnLst>
                              <p:par>
                                <p:cTn id="10" nodeType="clickEffect" fill="hold" presetClass="mediacall" presetID="1">
                                  <p:stCondLst>
                                    <p:cond delay="0"/>
                                  </p:stCondLst>
                                  <p:childTnLst>
                                    <p:cmd type="call" cmd="playFrom(0.0)">
                                      <p:cBhvr>
                                        <p:cTn id="11" dur="243722" fill="hold"/>
                                        <p:tgtEl>
                                          <p:spTgt spid="66"/>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67"/>
                    </p:tgtEl>
                  </p:cond>
                </p:stCondLst>
                <p:childTnLst>
                  <p:par>
                    <p:cTn id="13" fill="hold">
                      <p:stCondLst>
                        <p:cond evt="onClick">
                          <p:tgtEl>
                            <p:spTgt spid="67"/>
                          </p:tgtEl>
                        </p:cond>
                      </p:stCondLst>
                      <p:childTnLst>
                        <p:par>
                          <p:cTn id="14" fill="hold">
                            <p:stCondLst>
                              <p:cond delay="0"/>
                            </p:stCondLst>
                            <p:childTnLst>
                              <p:par>
                                <p:cTn id="15" nodeType="clickEffect" fill="hold" presetClass="mediacall" presetID="1">
                                  <p:stCondLst>
                                    <p:cond delay="0"/>
                                  </p:stCondLst>
                                  <p:childTnLst>
                                    <p:cmd type="call" cmd="playFrom(0.0)">
                                      <p:cBhvr>
                                        <p:cTn id="16" dur="144875" fill="hold"/>
                                        <p:tgtEl>
                                          <p:spTgt spid="67"/>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70"/>
                    </p:tgtEl>
                  </p:cond>
                </p:stCondLst>
                <p:childTnLst>
                  <p:par>
                    <p:cTn id="18" fill="hold">
                      <p:stCondLst>
                        <p:cond evt="onClick">
                          <p:tgtEl>
                            <p:spTgt spid="70"/>
                          </p:tgtEl>
                        </p:cond>
                      </p:stCondLst>
                      <p:childTnLst>
                        <p:par>
                          <p:cTn id="19" fill="hold">
                            <p:stCondLst>
                              <p:cond delay="0"/>
                            </p:stCondLst>
                            <p:childTnLst>
                              <p:par>
                                <p:cTn id="20" nodeType="clickEffect" fill="hold" presetClass="mediacall" presetID="1">
                                  <p:stCondLst>
                                    <p:cond delay="0"/>
                                  </p:stCondLst>
                                  <p:childTnLst>
                                    <p:cmd type="call" cmd="playFrom(0.0)">
                                      <p:cBhvr>
                                        <p:cTn id="21" dur="129148"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680" y="152280"/>
            <a:ext cx="3505320" cy="960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PART II</a:t>
            </a:r>
            <a:endParaRPr b="0" lang="en-US" sz="5400" spc="-1" strike="noStrike">
              <a:solidFill>
                <a:srgbClr val="000000"/>
              </a:solidFill>
              <a:latin typeface="Calibri"/>
            </a:endParaRPr>
          </a:p>
        </p:txBody>
      </p:sp>
      <p:pic>
        <p:nvPicPr>
          <p:cNvPr id="72" name="Picture 5" descr="Symphony No. 6 Score.jpg"/>
          <p:cNvPicPr/>
          <p:nvPr/>
        </p:nvPicPr>
        <p:blipFill>
          <a:blip r:embed="rId1"/>
          <a:stretch/>
        </p:blipFill>
        <p:spPr>
          <a:xfrm>
            <a:off x="0" y="1371600"/>
            <a:ext cx="4224240" cy="5440320"/>
          </a:xfrm>
          <a:prstGeom prst="rect">
            <a:avLst/>
          </a:prstGeom>
          <a:ln w="0">
            <a:noFill/>
          </a:ln>
        </p:spPr>
      </p:pic>
      <p:pic>
        <p:nvPicPr>
          <p:cNvPr id="73" name="Picture 4" descr="Nutcracker-Suite Overture.gif"/>
          <p:cNvPicPr/>
          <p:nvPr/>
        </p:nvPicPr>
        <p:blipFill>
          <a:blip r:embed="rId2"/>
          <a:stretch/>
        </p:blipFill>
        <p:spPr>
          <a:xfrm>
            <a:off x="3048120" y="960480"/>
            <a:ext cx="3844800" cy="5440320"/>
          </a:xfrm>
          <a:prstGeom prst="rect">
            <a:avLst/>
          </a:prstGeom>
          <a:ln w="0">
            <a:noFill/>
          </a:ln>
        </p:spPr>
      </p:pic>
      <p:pic>
        <p:nvPicPr>
          <p:cNvPr id="74" name="Picture 6" descr="Swan Lake Finale.gif"/>
          <p:cNvPicPr/>
          <p:nvPr/>
        </p:nvPicPr>
        <p:blipFill>
          <a:blip r:embed="rId3"/>
          <a:stretch/>
        </p:blipFill>
        <p:spPr>
          <a:xfrm>
            <a:off x="5267160" y="0"/>
            <a:ext cx="3876840" cy="5486400"/>
          </a:xfrm>
          <a:prstGeom prst="rect">
            <a:avLst/>
          </a:prstGeom>
          <a:ln w="0">
            <a:noFill/>
          </a:ln>
        </p:spPr>
      </p:pic>
      <p:pic>
        <p:nvPicPr>
          <p:cNvPr id="75" name="Picture 7" descr=""/>
          <p:cNvPicPr/>
          <p:nvPr/>
        </p:nvPicPr>
        <p:blipFill>
          <a:blip r:embed="rId4"/>
          <a:stretch/>
        </p:blipFill>
        <p:spPr>
          <a:xfrm>
            <a:off x="6400800" y="4665600"/>
            <a:ext cx="2362320" cy="19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Descriptions</a:t>
            </a:r>
            <a:br>
              <a:rPr sz="5400"/>
            </a:br>
            <a:r>
              <a:rPr b="0" lang="en-US" sz="3500" spc="-1" strike="noStrike">
                <a:solidFill>
                  <a:srgbClr val="000000"/>
                </a:solidFill>
                <a:latin typeface="bigattino"/>
                <a:ea typeface="bigattino"/>
              </a:rPr>
              <a:t>OF HIS WORK</a:t>
            </a:r>
            <a:endParaRPr b="0" lang="en-US" sz="3500" spc="-1" strike="noStrike">
              <a:solidFill>
                <a:srgbClr val="000000"/>
              </a:solidFill>
              <a:latin typeface="Calibri"/>
            </a:endParaRPr>
          </a:p>
        </p:txBody>
      </p:sp>
      <p:sp>
        <p:nvSpPr>
          <p:cNvPr id="77" name=""/>
          <p:cNvSpPr txBox="1"/>
          <p:nvPr/>
        </p:nvSpPr>
        <p:spPr>
          <a:xfrm>
            <a:off x="457200" y="2057400"/>
            <a:ext cx="8229600" cy="4525920"/>
          </a:xfrm>
          <a:prstGeom prst="rect">
            <a:avLst/>
          </a:prstGeom>
          <a:noFill/>
          <a:ln w="0">
            <a:noFill/>
          </a:ln>
        </p:spPr>
        <p:txBody>
          <a:bodyPr anchor="t">
            <a:normAutofit fontScale="94000"/>
          </a:bodyPr>
          <a:p>
            <a:pPr marL="322200" indent="-322200">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Yummah Strawberriez"/>
                <a:ea typeface="Yummah Strawberriez"/>
              </a:rPr>
              <a:t>Although Peter had some minor nervous breakdowns before a lot of his final pieces, such as his first symphony and his first opera, Peter overcame his self doubts and physical ailments, and successfully earned the hearts of the critics and audience of Russia. </a:t>
            </a:r>
            <a:endParaRPr b="0" lang="en-US" sz="2500" spc="-1" strike="noStrike">
              <a:solidFill>
                <a:srgbClr val="000000"/>
              </a:solidFill>
              <a:latin typeface="Calibri"/>
            </a:endParaRPr>
          </a:p>
          <a:p>
            <a:pPr marL="322200" indent="-322200">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Yummah Strawberriez"/>
                <a:ea typeface="Yummah Strawberriez"/>
              </a:rPr>
              <a:t>There were also some tense moments between Peter and the Rubenstein brothers because the Rubenstein brothers promoted strict “</a:t>
            </a:r>
            <a:r>
              <a:rPr b="0" i="1" lang="en-US" sz="2500" spc="-1" strike="noStrike">
                <a:solidFill>
                  <a:srgbClr val="000000"/>
                </a:solidFill>
                <a:latin typeface="Yummah Strawberriez"/>
                <a:ea typeface="Yummah Strawberriez"/>
              </a:rPr>
              <a:t>Russianism</a:t>
            </a:r>
            <a:r>
              <a:rPr b="0" lang="en-US" sz="2500" spc="-1" strike="noStrike">
                <a:solidFill>
                  <a:srgbClr val="000000"/>
                </a:solidFill>
                <a:latin typeface="Yummah Strawberriez"/>
                <a:ea typeface="Yummah Strawberriez"/>
              </a:rPr>
              <a:t>” in music, while Peter </a:t>
            </a:r>
            <a:r>
              <a:rPr b="1" lang="en-US" sz="2500" spc="-1" strike="noStrike">
                <a:solidFill>
                  <a:srgbClr val="000000"/>
                </a:solidFill>
                <a:latin typeface="Yummah Strawberriez"/>
                <a:ea typeface="Yummah Strawberriez"/>
              </a:rPr>
              <a:t>allowed </a:t>
            </a:r>
            <a:r>
              <a:rPr b="0" lang="en-US" sz="2500" spc="-1" strike="noStrike">
                <a:solidFill>
                  <a:srgbClr val="000000"/>
                </a:solidFill>
                <a:latin typeface="Yummah Strawberriez"/>
                <a:ea typeface="Yummah Strawberriez"/>
              </a:rPr>
              <a:t>Western European sensibilities into his music. However, because of Peter’s brazen displays of his extreme emotion, he remained popular with the public.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2057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loco tv"/>
                <a:ea typeface="loco tv"/>
              </a:rPr>
              <a:t>HOW HIS WORKS Effected society</a:t>
            </a:r>
            <a:br>
              <a:rPr sz="5400"/>
            </a:br>
            <a:r>
              <a:rPr b="0" lang="en-US" sz="2800" spc="-1" strike="noStrike">
                <a:solidFill>
                  <a:srgbClr val="000000"/>
                </a:solidFill>
                <a:latin typeface="bigattino"/>
                <a:ea typeface="bigattino"/>
              </a:rPr>
              <a:t>OR RATHER HOW SOCIETY EFFECTED HIS WORKS</a:t>
            </a:r>
            <a:endParaRPr b="0" lang="en-US" sz="2800" spc="-1" strike="noStrike">
              <a:solidFill>
                <a:srgbClr val="000000"/>
              </a:solidFill>
              <a:latin typeface="Calibri"/>
            </a:endParaRPr>
          </a:p>
        </p:txBody>
      </p:sp>
      <p:sp>
        <p:nvSpPr>
          <p:cNvPr id="79" name=""/>
          <p:cNvSpPr txBox="1"/>
          <p:nvPr/>
        </p:nvSpPr>
        <p:spPr>
          <a:xfrm>
            <a:off x="457200" y="2209680"/>
            <a:ext cx="8229600" cy="4724640"/>
          </a:xfrm>
          <a:prstGeom prst="rect">
            <a:avLst/>
          </a:prstGeom>
          <a:noFill/>
          <a:ln w="0">
            <a:noFill/>
          </a:ln>
        </p:spPr>
        <p:txBody>
          <a:bodyPr anchor="t">
            <a:normAutofit fontScale="88000"/>
          </a:bodyPr>
          <a:p>
            <a:pPr marL="301680" indent="-301680">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Yummah Strawberriez"/>
                <a:ea typeface="Yummah Strawberriez"/>
              </a:rPr>
              <a:t>Society welcomed Peter like Santa Clause, and Peter even had the privilege to compose without having any burden about thinking of the financial expenses. The government even gave Peter a permanent pension, and he was gaily received and gratified during his Europe tours in 1888. However, opulence only lasted for a brief amount of time for rumors about Peter’s unorthodox behaviors regarding his preference to male rather than female spread quickly. Also, one of the biggest emotional downfalls occurred to Peter at this time when his long time (13 years) financer rejected him. Even though Peter did not need her support anymore, he was devastated by her rejection and traveled to America. There, he was once again welcomed by the public, but Peter missed Russia. To his dismay, he immediately fell unhappy after going back to Russia. Here, he wrote his last symphony.</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6:27:26Z</dcterms:created>
  <dc:creator>Yoona Cha</dc:creator>
  <dc:description/>
  <dc:language>en-US</dc:language>
  <cp:lastModifiedBy>Yoona Cha</cp:lastModifiedBy>
  <dcterms:modified xsi:type="dcterms:W3CDTF">2008-12-04T02:34:59Z</dcterms:modified>
  <cp:revision>27</cp:revision>
  <dc:subject/>
  <dc:title>Peter Ilyich Tchaikovsky</dc:title>
</cp:coreProperties>
</file>